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414-62F3-4221-8AA5-92D9801D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1AEB-2E20-487B-98FA-BA537C7C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06D-CCFC-4515-B8AF-79FF63DC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D113-EC11-442B-A42C-AA1E29E4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3BD-5413-474E-8035-14EAA250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014-7D9E-4D81-B96F-CAE7D15F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B89-B444-41FA-8015-45D51A1E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0B2-A56B-4E84-9464-26C4A711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D4A1-C87D-44B9-BF60-3A134A66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FF4-5626-4811-9E00-677E0A03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3298-2C9B-4E1B-B2A4-D95A9D7A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48BC-F158-434D-BC15-0050E337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F3F3-814D-439D-9501-63273569A8FC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ench-maths.wikispaces.com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8.xml"/><Relationship Id="rId12" Type="http://schemas.openxmlformats.org/officeDocument/2006/relationships/slide" Target="slide22.xml"/><Relationship Id="rId13" Type="http://schemas.openxmlformats.org/officeDocument/2006/relationships/slide" Target="slide23.xml"/><Relationship Id="rId14" Type="http://schemas.openxmlformats.org/officeDocument/2006/relationships/slide" Target="slide24.xml"/><Relationship Id="rId15" Type="http://schemas.openxmlformats.org/officeDocument/2006/relationships/hyperlink" Target="file:///C:/Documents%20and%20Settings/AdamsD/Local%20Settings/Temp/Fractiondivision.ppt" TargetMode="External"/><Relationship Id="rId16" Type="http://schemas.openxmlformats.org/officeDocument/2006/relationships/hyperlink" Target="file:///C:/Documents%20and%20Settings/AdamsD/Local%20Settings/Temp/Fraction%20Flowchart.ppt" TargetMode="External"/><Relationship Id="rId17" Type="http://schemas.openxmlformats.org/officeDocument/2006/relationships/hyperlink" Target="file:///C:/Documents%20and%20Settings/AdamsD/Local%20Settings/Temp/Fraction%20Flow%20chart.doc" TargetMode="External"/><Relationship Id="rId18" Type="http://schemas.openxmlformats.org/officeDocument/2006/relationships/hyperlink" Target="file:///C:/Documents%20and%20Settings/AdamsD/Local%20Settings/Temp/Representing%20Decimal%20Fractions.ppt" TargetMode="External"/><Relationship Id="rId19" Type="http://schemas.openxmlformats.org/officeDocument/2006/relationships/hyperlink" Target="file:///C:/Documents%20and%20Settings/AdamsD/Local%20Settings/Temp/fraction_decimal_percent_conversions.ppt" TargetMode="External"/><Relationship Id="rId20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Graeme Hench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549360"/>
            <a:ext cx="288108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549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549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549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549360"/>
            <a:ext cx="720720" cy="143964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549360"/>
            <a:ext cx="720720" cy="7189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26828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877080" y="404640"/>
                <a:ext cx="1257120" cy="17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971640" y="4869000"/>
            <a:ext cx="5832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hench-maths.wikispac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L -0.62014 -3.7037E-006 E">
                                      <p:cBhvr>
                                        <p:cTn id="6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281320" y="3213000"/>
            <a:ext cx="934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0">
                  <a:noFill/>
                </a:ln>
                <a:solidFill>
                  <a:srgbClr val="3366ff">
                    <a:alpha val="19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</a:t>
            </a:r>
            <a:endParaRPr b="0" lang="en-US" sz="8000" spc="1" strike="noStrike">
              <a:ln w="0">
                <a:noFill/>
              </a:ln>
              <a:solidFill>
                <a:srgbClr val="3366ff">
                  <a:alpha val="19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ifying Fractions: Canc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ing means finding an equivalent fraction with the LOWEST denominator by  making a </a:t>
            </a:r>
            <a:r>
              <a:rPr b="0" lang="en-US" sz="2800" spc="-1" strike="noStrike">
                <a:solidFill>
                  <a:srgbClr val="c81e0c"/>
                </a:solidFill>
                <a:latin typeface="Arial"/>
              </a:rPr>
              <a:t>special form of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qual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71640" y="3429000"/>
                <a:ext cx="5572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628640" y="3416400"/>
                <a:ext cx="13669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76560" y="3436920"/>
                <a:ext cx="11905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284720" y="3429000"/>
                <a:ext cx="7300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71640" y="4869000"/>
                <a:ext cx="6681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92360" y="4941720"/>
                <a:ext cx="165564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÷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÷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564000" y="5013360"/>
                <a:ext cx="7808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580000" y="3213000"/>
            <a:ext cx="3240000" cy="1312920"/>
          </a:xfrm>
          <a:prstGeom prst="rect">
            <a:avLst/>
          </a:prstGeom>
          <a:solidFill>
            <a:srgbClr val="79d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way of doing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hat is a fra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ixed Numbers meth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Mixed Numbers meth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quivalent F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pecial form of on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pecial form of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Finding equivalent f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Adding: Common deno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Adding: Different deno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Common denominator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enominator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+1/3 with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+1/4 with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+2/5 with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3/7+2/3 No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dding Mixed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Multiplying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Multiplying Mixed Number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Multiplying Mixed number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Multiplying Mixed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Dividing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Fraction Flowchart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.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Fraction Flowchart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Decimal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Fraction&lt;-&gt;Decimal&lt;-&gt;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Fra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149720"/>
            <a:ext cx="216036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149720"/>
            <a:ext cx="1441440" cy="144144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414972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987640" y="4221000"/>
                <a:ext cx="86508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788000" y="2781360"/>
            <a:ext cx="3744720" cy="1439640"/>
          </a:xfrm>
          <a:prstGeom prst="cloudCallout">
            <a:avLst>
              <a:gd name="adj1" fmla="val -81032"/>
              <a:gd name="adj2" fmla="val 728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the NUMERATOR. I tell you the number of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5229360"/>
            <a:ext cx="3745080" cy="1439640"/>
          </a:xfrm>
          <a:prstGeom prst="cloudCallout">
            <a:avLst>
              <a:gd name="adj1" fmla="val -81157"/>
              <a:gd name="adj2" fmla="val -27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the DENOMINATOR. I tell you the name of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981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1e0c"/>
                </a:solidFill>
                <a:latin typeface="Comic Sans MS"/>
              </a:rPr>
              <a:t>A fraction is formed by dividing a whole into a number of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414972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69840" y="414972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ed numbers to improper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50920" y="1341360"/>
                <a:ext cx="149544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411280" y="1268280"/>
            <a:ext cx="1440000" cy="216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1268280"/>
            <a:ext cx="1440000" cy="216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32720" y="1268280"/>
            <a:ext cx="143964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32720" y="1268280"/>
            <a:ext cx="1439640" cy="72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2708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3645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 whole numbers to thi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198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2708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198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2708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95640" y="4280040"/>
                <a:ext cx="4321080" cy="17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50920" y="4292640"/>
            <a:ext cx="2160360" cy="504720"/>
          </a:xfrm>
          <a:prstGeom prst="wedgeRoundRectCallout">
            <a:avLst>
              <a:gd name="adj1" fmla="val 42875"/>
              <a:gd name="adj2" fmla="val 10503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xed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4437000"/>
            <a:ext cx="2089080" cy="576360"/>
          </a:xfrm>
          <a:prstGeom prst="wedgeRoundRectCallout">
            <a:avLst>
              <a:gd name="adj1" fmla="val -56458"/>
              <a:gd name="adj2" fmla="val 494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per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Way to change Mixed Numbers to improper fr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95280" y="1557360"/>
                <a:ext cx="112716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4869000"/>
            <a:ext cx="1219320" cy="1295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00" y="1844640"/>
            <a:ext cx="5185080" cy="4032360"/>
          </a:xfrm>
          <a:prstGeom prst="cloudCallout">
            <a:avLst>
              <a:gd name="adj1" fmla="val -35425"/>
              <a:gd name="adj2" fmla="val 125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ce 5/5=1 there are 5 fifths in each wh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1e0c"/>
                </a:solidFill>
                <a:latin typeface="Comic Sans MS"/>
              </a:rPr>
              <a:t>So 3 wholes will have 3x5=15 fif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us the 2 fifths already there makes a total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5+2=17 fif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164360" y="1557360"/>
                <a:ext cx="162864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2411280" y="1484280"/>
            <a:ext cx="4465800" cy="2376360"/>
          </a:xfrm>
          <a:prstGeom prst="cloudCallout">
            <a:avLst>
              <a:gd name="adj1" fmla="val -74777"/>
              <a:gd name="adj2" fmla="val 85805"/>
            </a:avLst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sh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x3+2=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867280" y="2060280"/>
            <a:ext cx="1873440" cy="576360"/>
          </a:xfrm>
          <a:prstGeom prst="line">
            <a:avLst/>
          </a:prstGeom>
          <a:ln w="57240">
            <a:solidFill>
              <a:srgbClr val="c81e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1989000"/>
            <a:ext cx="2881080" cy="431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1989000"/>
            <a:ext cx="2881080" cy="216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valent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851280" y="2903400"/>
                <a:ext cx="4586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476600" y="2933640"/>
                <a:ext cx="731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369040" y="2962440"/>
                <a:ext cx="6825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1692360" y="198900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270828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342900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4149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5589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84720" y="3645000"/>
            <a:ext cx="11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227640" y="2919240"/>
                <a:ext cx="90180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3708360" y="1268280"/>
            <a:ext cx="3888000" cy="1440000"/>
          </a:xfrm>
          <a:prstGeom prst="wedgeRoundRectCallout">
            <a:avLst>
              <a:gd name="adj1" fmla="val -32199"/>
              <a:gd name="adj2" fmla="val 45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quivalent fraction is one that has the same value and position on the number line but has a different deno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4292640"/>
            <a:ext cx="52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1e0c"/>
                </a:solidFill>
                <a:latin typeface="Arial"/>
              </a:rPr>
              <a:t>Equivalent fractions can be found by multiplying by a special form of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687840" y="5338800"/>
                <a:ext cx="493704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et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63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32">
                                          <p:stCondLst>
                                            <p:cond delay="2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16">
                                          <p:stCondLst>
                                            <p:cond delay="463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7">
                                          <p:stCondLst>
                                            <p:cond delay="58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9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58" fill="hold">
                                          <p:stCondLst>
                                            <p:cond delay="23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9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58" fill="hold">
                                          <p:stCondLst>
                                            <p:cond delay="4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9" fill="hold">
                                          <p:stCondLst>
                                            <p:cond delay="57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58" fill="hold">
                                          <p:stCondLst>
                                            <p:cond delay="58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9" fill="hold">
                                          <p:stCondLst>
                                            <p:cond delay="633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58" fill="hold">
                                          <p:stCondLst>
                                            <p:cond delay="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ying By a Special Form of O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060640"/>
            <a:ext cx="79311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ing any number by 1 does not change the value 4x1=4,  9x1=9 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divided by itself =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9000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1e0c"/>
                </a:solidFill>
                <a:latin typeface="Comic Sans MS"/>
              </a:rPr>
              <a:t>Why does it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11280" y="3645000"/>
                <a:ext cx="8064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84360" y="4653000"/>
            <a:ext cx="8208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a fraction by a special form of one changes the numerator and the denominator b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1e0c"/>
                </a:solidFill>
                <a:latin typeface="Comic Sans MS"/>
              </a:rPr>
              <a:t>DOES </a:t>
            </a:r>
            <a:r>
              <a:rPr b="0" lang="en-US" sz="2800" spc="-1" strike="noStrike" u="sng">
                <a:solidFill>
                  <a:srgbClr val="c81e0c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c81e0c"/>
                </a:solidFill>
                <a:latin typeface="Comic Sans MS"/>
              </a:rPr>
              <a:t> CHANGE TH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788000" y="907920"/>
                <a:ext cx="3204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80000" y="1700280"/>
                <a:ext cx="26640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788000" y="4149720"/>
                <a:ext cx="306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809880" y="4149720"/>
                <a:ext cx="281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356000" y="2852640"/>
                <a:ext cx="2635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211640" y="4941720"/>
                <a:ext cx="334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780000" y="907920"/>
                <a:ext cx="2682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924360" y="2781360"/>
                <a:ext cx="293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716360" y="1773360"/>
                <a:ext cx="3510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780000" y="5157720"/>
                <a:ext cx="349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199040" y="1773360"/>
                <a:ext cx="37296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284720" y="981000"/>
                <a:ext cx="3952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788000" y="2781360"/>
                <a:ext cx="4791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716360" y="5157720"/>
                <a:ext cx="3938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40360" y="4221000"/>
                <a:ext cx="498240" cy="7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 txBox="1"/>
          <p:nvPr/>
        </p:nvSpPr>
        <p:spPr>
          <a:xfrm>
            <a:off x="1547640" y="476280"/>
            <a:ext cx="540072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17 0.11319 C -0.19531 0.18032 -0.29028 0.24745 -0.33351 0.26504 C -0.37673 0.28264 -0.3684 0.25069 -0.35989 0.21875 E">
                                      <p:cBhvr>
                                        <p:cTn id="339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11 -0.04861 C 0.15973 -0.09537 0.25452 -0.14213 0.30539 -0.14305 C 0.35625 -0.14398 0.35695 -0.07754 0.37066 -0.05416 C 0.38438 -0.03078 0.38577 -0.01666 0.38733 -0.00231 E">
                                      <p:cBhvr>
                                        <p:cTn id="34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32 -0.03796 C 0.00937 -0.0037 -0.04757 0.03056 -0.08229 0.02685 C -0.11701 0.02315 -0.12951 -0.01852 -0.14201 -0.06018 E">
                                      <p:cBhvr>
                                        <p:cTn id="34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459 -0.0338 0.12917 -0.06736 0.16389 -0.06111 C 0.19862 -0.05486 0.20348 -0.00903 0.20834 0.03703 E">
                                      <p:cBhvr>
                                        <p:cTn id="351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33 0.0044 C 0.071 -0.0294 0.17951 -0.06296 0.23784 -0.05671 C 0.29618 -0.05046 0.30434 -0.00463 0.31267 0.04143 E">
                                      <p:cBhvr>
                                        <p:cTn id="35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459 -0.0338 0.12917 -0.06736 0.16389 -0.06111 C 0.19862 -0.05486 0.20348 -0.00903 0.20834 0.03703 E">
                                      <p:cBhvr>
                                        <p:cTn id="35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48 0.01783 C 0.11007 -0.01597 0.17465 -0.04953 0.20937 -0.04328 C 0.24409 -0.03703 0.24895 0.0088 0.25382 0.05486 E">
                                      <p:cBhvr>
                                        <p:cTn id="35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76 -0.16898 C -0.01927 -0.20393 -0.07829 -0.23866 -0.12413 -0.22639 C -0.16996 -0.21412 -0.20416 -0.10139 -0.23524 -0.09491 C -0.26632 -0.08842 -0.28836 -0.13796 -0.31024 -0.1875 E">
                                      <p:cBhvr>
                                        <p:cTn id="36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0044 C -0.03854 -0.03056 -0.09757 -0.06528 -0.1434 -0.05301 C -0.18923 -0.04074 -0.22344 0.07199 -0.25451 0.07847 C -0.28559 0.08495 -0.30764 0.03541 -0.32951 -0.01412 E">
                                      <p:cBhvr>
                                        <p:cTn id="363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47 0.03055 C -0.03056 -0.0044 -0.08958 -0.03912 -0.13542 -0.02685 C -0.18125 -0.01458 -0.21545 0.09815 -0.24653 0.10463 C -0.27761 0.11111 -0.29965 0.06157 -0.32153 0.01204 E">
                                      <p:cBhvr>
                                        <p:cTn id="36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2246 C -0.05833 -0.0125 -0.11736 -0.04722 -0.16319 -0.03495 C -0.20902 -0.02268 -0.24322 0.09005 -0.2743 0.09653 C -0.30538 0.10301 -0.32743 0.05347 -0.3493 0.00394 E">
                                      <p:cBhvr>
                                        <p:cTn id="36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6 C -0.04254 -0.03495 -0.08507 -0.06967 -0.11806 -0.0574 C -0.15122 -0.04514 -0.1757 0.0676 -0.19809 0.07408 C -0.22049 0.08056 -0.23646 0.03102 -0.25209 -0.01851 E">
                                      <p:cBhvr>
                                        <p:cTn id="36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5903 -0.03495 -0.11806 -0.06967 -0.16389 -0.0574 C -0.20972 -0.04513 -0.24392 0.0676 -0.275 0.07408 C -0.30608 0.08056 -0.32813 0.03102 -0.35 -0.01851 E">
                                      <p:cBhvr>
                                        <p:cTn id="37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89 -0.01574 L -0.04132 0.11621 L -0.01997 -0.01574 L 0.00278 0.11621 L 0.02535 -0.01574 L 0.04653 0.11621 L 0.0691 -0.01574 L 0.09062 0.11621 L 0.11319 -0.01574 L 0.13576 0.11621 L 0.15729 -0.01574 L 0.17986 0.11621 L 0.20104 -0.01574 L 0.22361 0.11621 L 0.24635 -0.01574 L 0.26771 0.11621 L 0.29045 -0.01574 E">
                                      <p:cBhvr>
                                        <p:cTn id="37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equivalent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971640" y="1557360"/>
                <a:ext cx="6890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2411280" y="213372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372360" y="1557360"/>
                <a:ext cx="7524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700360" y="170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vert 5ths to 20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2924280"/>
            <a:ext cx="8424720" cy="649080"/>
          </a:xfrm>
          <a:prstGeom prst="cloudCallout">
            <a:avLst>
              <a:gd name="adj1" fmla="val -40013"/>
              <a:gd name="adj2" fmla="val 1028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do we  multiply 5 by to get a product of 2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8360" y="3933720"/>
            <a:ext cx="1219320" cy="1295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68360" y="2852640"/>
            <a:ext cx="8137440" cy="1008000"/>
          </a:xfrm>
          <a:prstGeom prst="cloudCallout">
            <a:avLst>
              <a:gd name="adj1" fmla="val -38138"/>
              <a:gd name="adj2" fmla="val 81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at’s 4 so I must multiply        by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156360" y="2781360"/>
                <a:ext cx="4683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364000" y="2781360"/>
                <a:ext cx="306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708360" y="4076640"/>
                <a:ext cx="273672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348000" y="6021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1e0c"/>
                </a:solidFill>
                <a:latin typeface="Comic Sans MS"/>
              </a:rPr>
              <a:t>Special form of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427640" y="5516640"/>
            <a:ext cx="288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0:06:12Z</dcterms:created>
  <dc:creator>LHCA</dc:creator>
  <dc:description/>
  <dc:language>en-US</dc:language>
  <cp:lastModifiedBy>AdamsD</cp:lastModifiedBy>
  <dcterms:modified xsi:type="dcterms:W3CDTF">2011-06-06T06:29:36Z</dcterms:modified>
  <cp:revision>1</cp:revision>
  <dc:subject/>
  <dc:title>Introduction to Fractions</dc:title>
</cp:coreProperties>
</file>